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33.jpeg" ContentType="image/jpeg"/>
  <Override PartName="/ppt/media/image10.png" ContentType="image/png"/>
  <Override PartName="/ppt/media/image46.png" ContentType="image/png"/>
  <Override PartName="/ppt/media/image47.wmf" ContentType="image/x-wmf"/>
  <Override PartName="/ppt/media/image29.png" ContentType="image/png"/>
  <Override PartName="/ppt/media/image49.wmf" ContentType="image/x-wmf"/>
  <Override PartName="/ppt/media/image5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7.jpeg" ContentType="image/jpeg"/>
  <Override PartName="/ppt/media/image50.jpeg" ContentType="image/jpe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922-B9B2-42FE-98E5-ABEB359A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ECB-3971-4B5E-9F16-CE896E82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2B5-9A06-49BC-9291-BE6B77CF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1BD-80C0-4FFE-AD41-F814B7D3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C47-A18A-4F04-8F0D-B723B185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61D-421B-4796-9AB2-81D592C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716-A4CE-4DC5-B786-02F2A04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B59-A328-40E4-B419-3EB7D404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4DF-96C3-4F2A-84D2-1B2CCACF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3A6-CE52-42C2-8C4D-6FEEE0EB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CDE-1116-4A00-AAD5-FD1E9C0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8C6-504D-4E6B-B0A0-D59815C7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D1C6-E8BD-4643-92C5-2EB00A30605F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iencephoto.com/images/download_wm_image.html/B234108-Resistant_Staphylococcus_bacteria,_TEM-SPL.jpg?id=662340108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5497" r="42969" b="6872"/>
          <a:stretch/>
        </p:blipFill>
        <p:spPr>
          <a:xfrm>
            <a:off x="1295280" y="685800"/>
            <a:ext cx="5562720" cy="548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29687" t="21967" r="10155" b="15497"/>
          <a:stretch/>
        </p:blipFill>
        <p:spPr>
          <a:xfrm>
            <a:off x="1066680" y="685800"/>
            <a:ext cx="73152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9376" t="17658" r="16106" b="4718"/>
          <a:stretch/>
        </p:blipFill>
        <p:spPr>
          <a:xfrm>
            <a:off x="0" y="0"/>
            <a:ext cx="8991720" cy="678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17960" y="0"/>
            <a:ext cx="51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Download now">
            <a:hlinkClick r:id="rId1"/>
          </p:cNvPr>
          <p:cNvPicPr/>
          <p:nvPr/>
        </p:nvPicPr>
        <p:blipFill>
          <a:blip r:embed="rId2">
            <a:lum bright="70000" contrast="-70000"/>
          </a:blip>
          <a:srcRect l="18504" t="0" r="35171" b="0"/>
          <a:stretch/>
        </p:blipFill>
        <p:spPr>
          <a:xfrm>
            <a:off x="0" y="-1440"/>
            <a:ext cx="1295280" cy="686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 u="sng">
                <a:solidFill>
                  <a:srgbClr val="000000"/>
                </a:solidFill>
                <a:uFillTx/>
                <a:latin typeface="Arial"/>
              </a:rPr>
              <a:t>Estafilococ aur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blipFill rotWithShape="0">
            <a:blip r:embed="rId3">
              <a:alphaModFix amt="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1961 MRSA hospita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1990 MRSA comuni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1996 V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2002 VRSA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MRSA-C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50% infeccions SA comuni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Infeccions nosocomials per MRSA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nsmissió horitzontal arreu del m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Població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Abscessos. Menor virulè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Millor resposta a antibiòtics no betalactà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	</a:t>
            </a: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Centers for Disease Control and Prevention. Four pediatric death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	</a:t>
            </a: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community-acquired methicillin-resistant </a:t>
            </a:r>
            <a:r>
              <a:rPr b="0" i="1" lang="ca-ES" sz="1600" spc="-1" strike="noStrike">
                <a:solidFill>
                  <a:srgbClr val="231f20"/>
                </a:solidFill>
                <a:latin typeface="TimesNewRomanPS-ItalicMT"/>
              </a:rPr>
              <a:t>Staphylococcus aureus </a:t>
            </a: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	</a:t>
            </a: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Minnesota and North Dakota, 1997-1999. JAMA 1999;282:112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783" t="15752" r="3127" b="5798"/>
          <a:stretch/>
        </p:blipFill>
        <p:spPr>
          <a:xfrm>
            <a:off x="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05920" y="2743200"/>
            <a:ext cx="380880" cy="3049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4648320"/>
            <a:ext cx="380880" cy="30456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1120" y="22824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S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99-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191360" y="6019920"/>
            <a:ext cx="1952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47653" t="20735" r="10079" b="6638"/>
          <a:stretch/>
        </p:blipFill>
        <p:spPr>
          <a:xfrm>
            <a:off x="0" y="0"/>
            <a:ext cx="5527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86400" y="0"/>
            <a:ext cx="365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Community-associated Methicillin-resistant </a:t>
            </a:r>
            <a:r>
              <a:rPr b="1" i="1" lang="ca-ES" sz="1400" spc="-1" strike="noStrike">
                <a:solidFill>
                  <a:srgbClr val="000000"/>
                </a:solidFill>
                <a:latin typeface="Arial"/>
              </a:rPr>
              <a:t>Staphylococcus aureus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Overview and Local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imin Wijaya et 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Ann Acad Med Singapore 2006;35:479-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4065" t="17658" r="8594" b="3637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62960" cy="493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0"/>
            <a:ext cx="8153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mergence and resurgence of meticillin-res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Staphylococcus aureus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s a public-health thr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Hajo Grundmann, Marta Aires-de-Sousa, John Boyce, Edine Tiemer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Lancet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2006; 368: 874–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neumoc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4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967   Resistència a penicil·lin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udà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978  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,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,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sp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999   Tolerància a vancom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000   Vacuna conjugad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001   Tolerància vancomicina 2.6%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uè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003   Calendari vacunal AEP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sp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006   Vacuna conjugad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7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5626" t="21967" r="12500" b="4718"/>
          <a:stretch/>
        </p:blipFill>
        <p:spPr>
          <a:xfrm>
            <a:off x="0" y="0"/>
            <a:ext cx="90457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11860" r="17188" b="10510"/>
          <a:stretch/>
        </p:blipFill>
        <p:spPr>
          <a:xfrm>
            <a:off x="0" y="38088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95680" y="2133720"/>
            <a:ext cx="46483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12262" r="15626" b="10107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83" t="16578" r="10155" b="16578"/>
          <a:stretch/>
        </p:blipFill>
        <p:spPr>
          <a:xfrm>
            <a:off x="-1440" y="990720"/>
            <a:ext cx="9145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80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7811" t="20893" r="3127" b="13343"/>
          <a:stretch/>
        </p:blipFill>
        <p:spPr>
          <a:xfrm>
            <a:off x="0" y="1447920"/>
            <a:ext cx="9144000" cy="4892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5715000"/>
            <a:ext cx="30492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5715000"/>
            <a:ext cx="30492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715000"/>
            <a:ext cx="30492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715000"/>
            <a:ext cx="30456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762120"/>
            <a:ext cx="304920" cy="30456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0320" y="762120"/>
            <a:ext cx="1400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d686de"/>
                </a:solidFill>
                <a:latin typeface="Arial"/>
              </a:rPr>
              <a:t>PNC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sistències </a:t>
            </a:r>
            <a:r>
              <a:rPr b="0" i="1" lang="en-US" sz="3600" spc="-1" strike="noStrike">
                <a:solidFill>
                  <a:srgbClr val="808080"/>
                </a:solidFill>
                <a:latin typeface="Arial"/>
              </a:rPr>
              <a:t>pneumoc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ència a eritromicina majoria de paï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ència a penicil·lina en països endè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ència a penicil·lina en no endè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s els resistents són a la vacuna conju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acunació redueix les resistè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21160" t="53176" r="38281" b="31673"/>
          <a:stretch/>
        </p:blipFill>
        <p:spPr>
          <a:xfrm>
            <a:off x="685800" y="46483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21160" t="29518" r="38281" b="54990"/>
          <a:stretch/>
        </p:blipFill>
        <p:spPr>
          <a:xfrm>
            <a:off x="1066680" y="304920"/>
            <a:ext cx="7315200" cy="202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1721" t="20893" r="39064" b="4718"/>
          <a:stretch/>
        </p:blipFill>
        <p:spPr>
          <a:xfrm>
            <a:off x="228600" y="1676520"/>
            <a:ext cx="452124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1680" y="228600"/>
            <a:ext cx="553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cherichia coli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Klebsiella pneumoniae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du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de betalactamasas de espectro extendido en hosp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spañoles (Proyecto GEIH-BLEE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808080"/>
                </a:solidFill>
                <a:latin typeface="Arial"/>
              </a:rPr>
              <a:t>Enferm Infecc Microbiol Clin 2003;21(2):77-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9532" t="17658" r="7032" b="4718"/>
          <a:stretch/>
        </p:blipFill>
        <p:spPr>
          <a:xfrm>
            <a:off x="5029200" y="2286000"/>
            <a:ext cx="3809880" cy="2917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13440" y="1447920"/>
            <a:ext cx="341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BLEE (+) en el 90% dels 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33399"/>
                </a:solidFill>
                <a:latin typeface="Arial"/>
              </a:rPr>
              <a:t>E. Coli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0-  2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33399"/>
                </a:solidFill>
                <a:latin typeface="Arial"/>
              </a:rPr>
              <a:t>K. Pneumoniae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0-16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56272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51% </a:t>
            </a:r>
            <a:r>
              <a:rPr b="1" i="1" lang="ca-ES" sz="1600" spc="-1" strike="noStrike">
                <a:solidFill>
                  <a:srgbClr val="333399"/>
                </a:solidFill>
                <a:latin typeface="Arial"/>
              </a:rPr>
              <a:t>E. coli </a:t>
            </a: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BLEE (+) extrahospital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93% </a:t>
            </a:r>
            <a:r>
              <a:rPr b="1" i="1" lang="ca-ES" sz="1600" spc="-1" strike="noStrike">
                <a:solidFill>
                  <a:srgbClr val="333399"/>
                </a:solidFill>
                <a:latin typeface="Arial"/>
              </a:rPr>
              <a:t>K. pneumoniae </a:t>
            </a: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BLEE (+) hospital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6095880"/>
            <a:ext cx="40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33399"/>
                </a:solidFill>
                <a:latin typeface="Arial"/>
              </a:rPr>
              <a:t>K. pneumoniae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 UCI (34%) Pediatria (3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15497" r="3127" b="11188"/>
          <a:stretch/>
        </p:blipFill>
        <p:spPr>
          <a:xfrm>
            <a:off x="0" y="533520"/>
            <a:ext cx="9144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6245280"/>
            <a:ext cx="3200400" cy="61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78000" y="1252440"/>
            <a:ext cx="6588000" cy="435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6678720"/>
            <a:ext cx="8783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pyright ©2005 American Academy of Pedia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78000" y="5715000"/>
            <a:ext cx="6588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outis, T. E. et al. Pediatrics 2005;115:942-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92120"/>
            <a:ext cx="8783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g 1. Antibiotic susceptibility profile of ESBL-EK isolates, as defined by NCCLS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3581280"/>
            <a:ext cx="533520" cy="4572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 The name of referred object is zcm0040521480001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5480" y="382320"/>
            <a:ext cx="5075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xtended-Spectrum β-Lactamases: a Clinical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avid L. Paterson1 and Robert A. Bon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lin Microbiol Rev. 2005 October; 18(4): 657–686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638680"/>
            <a:ext cx="609840" cy="5335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61722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15200" y="1523880"/>
            <a:ext cx="0" cy="45720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15000" y="1523880"/>
            <a:ext cx="0" cy="45720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937400" y="219348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ESPAN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6134040" y="224964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CRITERIS  NCC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7032" t="17658" r="16405" b="4718"/>
          <a:stretch/>
        </p:blipFill>
        <p:spPr>
          <a:xfrm>
            <a:off x="0" y="0"/>
            <a:ext cx="9126360" cy="6705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9376" t="17658" r="13282" b="3637"/>
          <a:stretch/>
        </p:blipFill>
        <p:spPr>
          <a:xfrm>
            <a:off x="0" y="0"/>
            <a:ext cx="92203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7032" t="17658" r="15626" b="3637"/>
          <a:stretch/>
        </p:blipFill>
        <p:spPr>
          <a:xfrm>
            <a:off x="0" y="0"/>
            <a:ext cx="92203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783" t="16578" r="10155" b="16578"/>
          <a:stretch/>
        </p:blipFill>
        <p:spPr>
          <a:xfrm>
            <a:off x="0" y="838080"/>
            <a:ext cx="9145440" cy="497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562" t="16578" r="9376" b="16578"/>
          <a:stretch/>
        </p:blipFill>
        <p:spPr>
          <a:xfrm>
            <a:off x="0" y="838080"/>
            <a:ext cx="91440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067680" cy="4656240"/>
            <a:chOff x="0" y="0"/>
            <a:chExt cx="9067680" cy="4656240"/>
          </a:xfrm>
        </p:grpSpPr>
        <p:grpSp>
          <p:nvGrpSpPr>
            <p:cNvPr id="122" name=""/>
            <p:cNvGrpSpPr/>
            <p:nvPr/>
          </p:nvGrpSpPr>
          <p:grpSpPr>
            <a:xfrm>
              <a:off x="0" y="0"/>
              <a:ext cx="6081840" cy="4656240"/>
              <a:chOff x="0" y="0"/>
              <a:chExt cx="6081840" cy="465624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510000" cy="46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4440" y="30240"/>
                <a:ext cx="3497400" cy="462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648400" y="76320"/>
              <a:ext cx="3419280" cy="45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90600" y="47520"/>
            <a:ext cx="476280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9376" t="18732" r="14065" b="3637"/>
          <a:stretch/>
        </p:blipFill>
        <p:spPr>
          <a:xfrm>
            <a:off x="0" y="0"/>
            <a:ext cx="914400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13336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05520" y="2438280"/>
            <a:ext cx="3504960" cy="228600"/>
          </a:xfrm>
          <a:prstGeom prst="rect">
            <a:avLst/>
          </a:prstGeom>
          <a:gradFill rotWithShape="0">
            <a:gsLst>
              <a:gs pos="0">
                <a:srgbClr val="d686de">
                  <a:alpha val="0"/>
                </a:srgbClr>
              </a:gs>
              <a:gs pos="100000">
                <a:srgbClr val="623d66">
                  <a:alpha val="38039"/>
                </a:srgbClr>
              </a:gs>
            </a:gsLst>
            <a:lin ang="10800000"/>
          </a:gradFill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648320"/>
            <a:ext cx="3504960" cy="228600"/>
          </a:xfrm>
          <a:prstGeom prst="rect">
            <a:avLst/>
          </a:prstGeom>
          <a:gradFill rotWithShape="0">
            <a:gsLst>
              <a:gs pos="0">
                <a:srgbClr val="623d66">
                  <a:alpha val="48235"/>
                </a:srgbClr>
              </a:gs>
              <a:gs pos="100000">
                <a:srgbClr val="d686de">
                  <a:alpha val="0"/>
                </a:srgbClr>
              </a:gs>
            </a:gsLst>
            <a:lin ang="10800000"/>
          </a:gradFill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486400"/>
            <a:ext cx="3504960" cy="228600"/>
          </a:xfrm>
          <a:prstGeom prst="rect">
            <a:avLst/>
          </a:prstGeom>
          <a:gradFill rotWithShape="0">
            <a:gsLst>
              <a:gs pos="0">
                <a:srgbClr val="623d66">
                  <a:alpha val="48235"/>
                </a:srgbClr>
              </a:gs>
              <a:gs pos="100000">
                <a:srgbClr val="d686de">
                  <a:alpha val="0"/>
                </a:srgbClr>
              </a:gs>
            </a:gsLst>
            <a:lin ang="10800000"/>
          </a:gradFill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628640"/>
            <a:ext cx="8543880" cy="522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981080" cy="1839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91120" y="2514600"/>
            <a:ext cx="4419360" cy="228600"/>
          </a:xfrm>
          <a:prstGeom prst="rect">
            <a:avLst/>
          </a:prstGeom>
          <a:gradFill rotWithShape="0">
            <a:gsLst>
              <a:gs pos="0">
                <a:srgbClr val="ff6600">
                  <a:alpha val="0"/>
                </a:srgbClr>
              </a:gs>
              <a:gs pos="100000">
                <a:srgbClr val="752f00">
                  <a:alpha val="38039"/>
                </a:srgbClr>
              </a:gs>
            </a:gsLst>
            <a:lin ang="108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657600"/>
            <a:ext cx="4419360" cy="228600"/>
          </a:xfrm>
          <a:prstGeom prst="rect">
            <a:avLst/>
          </a:prstGeom>
          <a:gradFill rotWithShape="0">
            <a:gsLst>
              <a:gs pos="0">
                <a:srgbClr val="752f00">
                  <a:alpha val="38039"/>
                </a:srgbClr>
              </a:gs>
              <a:gs pos="100000">
                <a:srgbClr val="ff6600">
                  <a:alpha val="0"/>
                </a:srgbClr>
              </a:gs>
            </a:gsLst>
            <a:lin ang="108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486400"/>
            <a:ext cx="4419360" cy="228600"/>
          </a:xfrm>
          <a:prstGeom prst="rect">
            <a:avLst/>
          </a:prstGeom>
          <a:gradFill rotWithShape="0">
            <a:gsLst>
              <a:gs pos="0">
                <a:srgbClr val="752f00">
                  <a:alpha val="38039"/>
                </a:srgbClr>
              </a:gs>
              <a:gs pos="100000">
                <a:srgbClr val="ff6600">
                  <a:alpha val="0"/>
                </a:srgbClr>
              </a:gs>
            </a:gsLst>
            <a:lin ang="108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998640"/>
            <a:ext cx="6553080" cy="2997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4068720"/>
            <a:ext cx="4524480" cy="2712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952880" y="4070520"/>
            <a:ext cx="3754440" cy="2711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9999"/>
                </a:solidFill>
                <a:latin typeface="Arial"/>
              </a:rPr>
              <a:t>RESISTENCIES BACTERIANES</a:t>
            </a:r>
            <a:r>
              <a:rPr b="1" lang="ca-E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9999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9999"/>
                </a:solidFill>
                <a:latin typeface="Arial"/>
              </a:rPr>
              <a:t>Dr. Javier Casal. Microbiologia. Laboratori HN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438280"/>
            <a:ext cx="457200" cy="2286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438280"/>
            <a:ext cx="457200" cy="2286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72600" y="1143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648320"/>
            <a:ext cx="457200" cy="22860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972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647120" y="0"/>
            <a:ext cx="1496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783" t="16578" r="5467" b="6872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783" t="16578" r="6250" b="6470"/>
          <a:stretch/>
        </p:blipFill>
        <p:spPr>
          <a:xfrm>
            <a:off x="0" y="762120"/>
            <a:ext cx="9067680" cy="5438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783" t="17658" r="7032" b="5798"/>
          <a:stretch/>
        </p:blipFill>
        <p:spPr>
          <a:xfrm>
            <a:off x="0" y="7621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Download now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STÈNCIES BACTERI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gradFill rotWithShape="0">
            <a:gsLst>
              <a:gs pos="0">
                <a:srgbClr val="e1fda1">
                  <a:alpha val="0"/>
                </a:srgbClr>
              </a:gs>
              <a:gs pos="100000">
                <a:srgbClr val="8ea065">
                  <a:alpha val="44313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stafilococ au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streptococ pneumon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nterococ fae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nterococ fae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Klebsiella pneumon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Pseudomona aerugi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Stenotrophomonas malt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Acinetobacter bauma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Download now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gradFill rotWithShape="0">
            <a:gsLst>
              <a:gs pos="0">
                <a:srgbClr val="67744a">
                  <a:alpha val="43137"/>
                </a:srgbClr>
              </a:gs>
              <a:gs pos="100000">
                <a:srgbClr val="e1fd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RÍN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 espè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mosò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ó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4525920"/>
          </a:xfrm>
          <a:prstGeom prst="rect">
            <a:avLst/>
          </a:prstGeom>
          <a:gradFill rotWithShape="0">
            <a:gsLst>
              <a:gs pos="0">
                <a:srgbClr val="67744a">
                  <a:alpha val="43137"/>
                </a:srgbClr>
              </a:gs>
              <a:gs pos="100000">
                <a:srgbClr val="e1fd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Arial"/>
              </a:rPr>
              <a:t>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Mutació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nsmissió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Adquisició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nsmissió horit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njug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ransduc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ransform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STÈNCIES BACTERI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nteroc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gradFill rotWithShape="0">
            <a:gsLst>
              <a:gs pos="0">
                <a:srgbClr val="66ff33">
                  <a:alpha val="0"/>
                </a:srgbClr>
              </a:gs>
              <a:gs pos="100000">
                <a:srgbClr val="2f7517">
                  <a:alpha val="4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nterococ faecal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80-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nterococ </a:t>
            </a:r>
            <a:r>
              <a:rPr b="1" i="1" lang="ca-ES" sz="2800" spc="-1" strike="noStrike">
                <a:solidFill>
                  <a:srgbClr val="000000"/>
                </a:solidFill>
                <a:latin typeface="Arial"/>
              </a:rPr>
              <a:t>faecium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0-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acilitat de múltiples resistè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Transferència gè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988 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uropa 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USA 35% (nosocomials / comunita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280" y="457200"/>
          <a:ext cx="8915400" cy="605808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600200"/>
                <a:gridCol w="1600200"/>
                <a:gridCol w="1371600"/>
                <a:gridCol w="1676160"/>
              </a:tblGrid>
              <a:tr h="80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IÒ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ÈR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ANIS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C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TÀM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fae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ÍNS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IX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ICIL·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LERÀ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C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ERGIS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faeca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às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TAM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CIL·LI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ÒS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ÍNS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ERGIS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LACTÀ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às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ZIMÀ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Í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VI 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COM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VRE-H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ÈPT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fae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A</a:t>
                      </a: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B,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Z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OPRISTINA-DALFOPRIS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PTOM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7970" t="25203" r="15626" b="4718"/>
          <a:stretch/>
        </p:blipFill>
        <p:spPr>
          <a:xfrm>
            <a:off x="0" y="76320"/>
            <a:ext cx="883908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diatria</cp:lastModifiedBy>
  <dcterms:modified xsi:type="dcterms:W3CDTF">2007-06-27T18:28:21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